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D8BF-5FCC-457E-8B3D-3D91B4F6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6D1-49C1-43F1-BD72-538BCE4F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E383B-291D-4ABC-8949-2858E54A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E0BB0-01B5-45AC-8C66-D484D2DE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D0A4E-A44C-40BE-98B5-F7AD5073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E7881-9EE0-42D5-BF0E-75A581A2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D8C00-7682-4561-9A63-E8E8F253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BAC82-5822-4D22-A53F-0A5B696D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C1393-CBA1-4E72-863D-82BE7896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0F556-2FB4-4611-B206-C714F521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5D216-FA48-4037-BB55-B4251CF8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E4CD6-A3B3-4D16-95A5-0158EEFE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B70-E249-4BC5-B459-186CE483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0FCE3-CF82-4F73-8ACC-C270B724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DAB36-16C6-484E-8F06-89F9F12F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F15F9-227B-4090-B077-313CD29A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99EF2-B7AA-4D67-888F-5FADB1F9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40F4C-C168-438D-BA73-100FEDC7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56220-8204-47E5-9055-2D94C044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E271F-1E6B-47E8-BBA1-936D7825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61CCD-8284-4528-9AB7-CB68B514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398A2-2D7C-4486-B704-1D596F16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265AB-29C8-4107-A833-DD1521E7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E1F-EBCD-463F-AEFB-4F538024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373D7-36DE-4720-8CAE-AA61DC9E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846E3-C684-478A-9FEC-765D235E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C5531-9992-4357-A121-69AF0520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9F27A-4951-4962-A436-4F8C19AE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94695-BC01-4F77-8768-9E668483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5E123-9EE2-42D1-AD3C-4BF21D45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2CA07-2704-4460-B90B-1893E334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9D422-6F4A-417E-97EC-15BBCCD0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E170B-F557-4688-940D-96EE52C1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03F16-412F-472D-9D2D-E93C21C4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1356-3CF1-49D4-97FB-F3BA528A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2A6C0-DF4D-4137-99B7-B46B8237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2EDE2-E717-4A6E-8618-D629B2BD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BB188-3F58-4E30-AF70-1696FD2B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1AA18-4F90-4A3F-BD48-92BA9E6F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92180-FD43-4DEC-B4FD-85FBF71A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4EADD-A244-4E6E-AE6D-BE022FBB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664FA-9B1E-4BD3-9677-81D170F6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68C04-66F6-4CF9-909C-90FE76C9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D9D02-9D32-4F62-A8D8-AC5FB688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9D43A-F397-428C-8D63-58D0891A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AA70-39E1-469A-AD64-1EBA520C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0A065-C972-4C32-958A-0F2D689A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BC72C-2BE8-45B5-B7B5-0A3153EE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9C2A8-8441-4A2F-BCE6-44B474D4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1CAFF-FCA4-4CF1-9E52-E5E257BC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8B5F3-2711-487F-9B17-01B873CF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72960-55FE-46E9-898E-AF6BC895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CE7AD-5D25-4870-93B4-304CA09C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6DCF7-A0C5-49D5-941F-857FF220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18D3B-1D8D-4E08-8D33-F12F4F8C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13E73-6E6C-46F9-8D3F-C696993E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554B-3EB2-4EEE-BBDA-D03A6D7D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94778-C61A-4121-A809-8C47BD99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5DA66-9789-42E6-AB1E-4E8CA2B1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083E0-E5F4-4EC3-A64F-598BE985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44AE1-80E6-4554-962D-654A1A97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5539F-4658-4D5A-B0D7-55635ADD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B7CB0-316D-41F1-B848-6560ABA9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4D33DD-E33C-4B6F-842C-41F2CAD5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6002BF-E206-4E0E-900B-5B03FBDD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90474-18F4-4312-BD28-36569685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AB52F-C47B-4132-AE2A-1F4B776B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DA60-B949-47CD-81AC-53A2DC07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ECEBA3-B34C-4131-911F-B68EB702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78165E-7452-4662-85B1-40D1F749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F6160E-5C0A-40C1-9A3F-B3665B38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3CDB4-4302-45FD-81DE-BA461A1E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624D71-093F-4FA0-86D3-F82078DC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7D967-0D77-4B64-BB6F-DE34A416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B4938-48FD-4843-B7BA-7F63DFB1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C4239E-DC7F-4A59-BB91-DCEFFE52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F767CE-8980-4ED7-819E-D0E3669A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0238B7-E03B-47B9-95D4-C3A3DBE9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4719-4914-4D60-ABD1-2877B709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97F365-BA23-4B43-ACF8-3DBC084F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326E92-B367-42B3-AD3B-EFEAA552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42D34F-5B59-4F5D-AF57-DBA39D07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4F1D0-893D-49B0-BEEE-C0B6245E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12A892-A5AC-4E97-81D2-DAA95710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B8A9A7-A10F-46D9-9E7F-69F46E4A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D1B35C-2159-4A58-8F35-7FE0490C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91EE82-2580-4B17-A7A6-13F5D162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484DB2-08E1-4818-8058-75D606C7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9261CE-6C07-426C-BA0B-92E3C0BD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BA7A-C0BA-4653-8297-249674B1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A35CDA-BCAF-4475-82AB-A8015397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77DCEB-BA73-4408-993E-822CF4A4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2895C9-B791-48A1-A7EB-0E02C7FF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C20756-B69F-4707-9276-0076B940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B49BA-BAE5-467A-B5E4-6C88C300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19EE0E-38F8-41C1-AA48-5B6D1A84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295AB8-A3F2-47A6-AB04-ABE2686B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0FA3DC-3F83-4E21-AEA0-4AD345D0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A9C832-E145-41F8-8B0C-32C55283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B2AFBD-BE19-481C-A610-4139B5ED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0E28-E9B6-437D-8322-D9ED5F9F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6B5334-9633-4B90-A32F-79C291FC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A79339-36DC-45A3-B1AC-7887FEF6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562573-1DA8-42CE-B984-2A6ECD08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EC005D-BC43-4455-90ED-553C3B9F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E81AAE-4563-4CE0-B4B2-5BC72C05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71293E-CAAA-4357-805B-319FC873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3F95AB-92C1-447B-A5EF-0DB9D910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BF4E11-734B-48B5-982A-749E853D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34ADB2-B313-4922-B34B-D8CA0C54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85B89-F2BB-48E2-AC26-163953B5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0A7-A33A-4CFF-9B4A-81D1FD74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A2F3-FFA2-440A-8456-C6869697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728CF3-C565-416A-AD3E-D810B761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1E667B-BEA5-4FE8-A3DA-07A19E36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722BEF-E93D-4B60-AE89-683DBECB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437F1E-38AB-4FCD-9194-76C1929E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F222A0-B9E1-443A-B82C-80C8CF9C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ED795F-1FBE-45EC-BA02-B6BDC6C1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3E92A3-89B2-4023-94D9-930990DB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E226A7-B882-4313-8D87-31E7B8A8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0737D6-82C8-463D-80B0-43954509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19E21F-EC34-462A-A77E-355A74CB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B003-4894-49EE-A09D-AE0F1C0A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1FAF15-864D-4C17-A4A3-B69DB713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4B323C-7299-4A15-BC3B-89B8DD8B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3D3565-5227-401E-A29D-4C97CEDB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96683D-AF7C-42F4-BA70-7BF98708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4F63E4-6009-4EFD-826D-80177C0B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5967FC-7605-4C2A-9EDC-D236E0BE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23860C-5D91-4E02-84F7-400B5211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70D1C8-0C7F-46B7-91DD-EFE1C598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CEF305-C4F7-4EA6-8644-079E49A9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4178EC-668B-4CAF-A123-A593A87B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200A-D5F0-499F-892A-89F4C120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0EB036-D28B-4822-8F05-7B3A85D3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8C1907-B535-4621-BF07-0FE4AD98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60FF9E-44C2-45BF-B696-752F6BD7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ACFBF9-79AE-4294-A832-07B7B6EE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9A9D67-43D5-4344-8DFE-EDF48002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076DB4-81AC-4A0E-AD3A-F0BF75B0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9893D3-5A2A-4FCE-859F-E7991198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B7EF27-2EA3-4B27-B1B7-87CA3EE5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BCB8A1-E37D-4441-933F-F28822DD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1EB30A-90E1-4AD1-A82D-ACB093A3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6A67-FB04-432A-BD52-27769FB6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DBD42A-3E77-4243-A044-8DC7FE25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719D45-7796-4DDA-BA1D-38E221F5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85CA3F-815F-4AF3-B686-4D7846DD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0DBE9F-AFB1-42C5-948C-CF585D39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0B6756-2BB4-4513-86BE-FF1CECF7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036315-6FFB-492F-ACD3-A9825DE3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1B1780-4646-435A-88C2-ED3308DC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EBC8B4-688A-420E-9811-C430B314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5CB0F1-2218-4B47-9D0E-8E216175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2FD5F1-1017-4243-9087-7083F0EF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8848-1783-420D-A8DB-B2452C2E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A95F7F-54F7-4831-BF92-628024E1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F9C58A-8F1B-41D0-A61E-8D78E905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05B5D7-F96D-4F56-BA61-EA3648C7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6301ED-8F28-4433-934E-804271EE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DE6BA1-F896-4EAB-B218-80E80E1B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5C4219-4DE6-45EA-BDC0-9A9223B9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93EE48-DE87-433F-B43B-60051637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D656F8-BDB5-4761-B22E-E56E8F48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17C742-BA94-453A-9ED2-619F6D12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7F753C-6D66-404C-BFDF-15A88535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F1E63-2A07-49C9-A269-108E0D74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539BD7-B413-4D08-AFB4-EC00025A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F86268-2C9F-4A2D-9981-F6321DA8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465D35-3FF3-4580-83B4-47312CA6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152D1A-84EE-4903-91C0-93A7AB76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BF7309-501B-40E8-968D-D9551443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9D7C85-D78E-48F5-93DE-AE8FCB77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D480D6-1C22-4162-AC75-07C850AA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481133-379B-4710-8FB0-5E40999B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76E008-2768-4B0A-A9AA-421E03B9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F108A8-9E4A-4BB5-B92D-453B6C83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E4BB6-5A86-4539-9E02-2A91711E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FD281D-9FD0-4F8C-B1E7-76B90C3F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77A41B-FE4C-411C-A60A-8A8C6011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8E4972-84C1-4D5A-BEAD-B92421F8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A81D5E-B8EF-416E-9D1A-6C0F2229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AA52F3-B7B1-4455-9F82-74FD7934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4B22E5-6047-45AD-A657-21FAF59D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F972BB-717A-4C6E-947B-0625F970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2C8922-B187-4276-A6FB-49195B44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02309F-5566-4FCA-A7BB-C3FED8A1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BCE29A-CDA9-4EE0-9042-46FDD41A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4620D-69A3-4BC7-B009-37980472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958000-0B71-4402-848D-E13855AA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0E45CE-0F6D-4D90-8F24-87F9B77E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8DA498-01E6-4AF2-A80D-7FA9947D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E8E825-5FA2-450F-B590-CF2BA980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6254AD-8AD6-43D4-B116-8211EC41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D3EDD8-A30A-4F85-956C-7611A06F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CBB73F-1CDD-4082-9ADA-261A2C05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AF4AE-B8E2-4CFE-9D19-F1A0AB70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E10DA-5C09-49EF-9DB6-9A774DC4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DE51-3B12-4D24-A7F4-5229E05A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7D8A1-02CA-4F90-A598-DAACC66C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A0E2C-8741-481A-B5F3-441E2E00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31F2A-8B01-4556-964C-127A2F14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224EC-8A84-4086-82A3-2E492BEC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E54E5-5023-49C7-92BE-0074A6D1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31C10-105F-4688-929C-5B4B743F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22F21-983C-4683-994D-5524BC51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396B5-2F29-4848-A547-22A692D0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D1DF4-AA55-4894-8AA7-FEAA00BF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C9ADC-9C51-454F-B6C2-48CC8BB4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361-3726-4782-BEE3-66502085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F73A2-EC04-4B9F-8C86-89C4EDED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1384F-3F4E-496C-B790-D32B0196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958F8-4F41-4D54-9BCB-D887AE4E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0C20E-921B-4028-8113-E35438D5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8DCEA-0A12-40CD-A392-FA8E70F3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51523-7C3E-4089-9375-6446540C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5AC2A-1510-41A5-A77A-1B057D14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BE280-D456-4C40-BB91-E3098D05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04D3C-EC83-44FD-8BD0-1888C339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DD740-3BF9-4822-83C6-C8C38899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744-CA5B-4FF8-AED3-EAE6FBCD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7F8FF-9FEF-4FDA-80F7-4CA18D6F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F1F36-6775-47BF-89E1-D9A3DA21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0A9C0-E2B5-4DC4-B0F9-43E2DE59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BEB1D-C2F2-441F-9EC4-B2747315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582F0-B8F7-475B-BF5F-6F61F491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1E30E-9084-4440-BBB7-874201E0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1D1E5-F13A-4219-A9C1-B1530BD0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FB495-2440-4691-9AFE-C70C27B8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D25F2-31CF-47DD-A0FE-3D6E2382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AAE8D-DC60-4E2B-B218-864B5B45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D11C-060C-4238-91AC-6B272DAE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E64FD-7208-4E53-A4B3-45FEB8C1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0B6F8-8D46-4545-AAD4-E11537B2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7D7D5-EA42-41F5-9D64-8EE01E58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9A4FB-4563-480A-8FAE-8D6CDC3B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21C4B-A06F-4F5B-AC4F-10CA5CB9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7A3F9-3924-464F-A5E2-5B7137CB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7CE5E-9E12-4169-9FDE-0C55A38B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5481B-9B77-4C63-9AE0-C4B66835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7CA69-2736-4FBA-90DD-72F6CC56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64D4B-95B6-4DC2-8C30-62805815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D646-DA8B-4DA5-ADED-164EC35C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28898-3D5F-429E-B3AB-7A692851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766E8-B848-435E-9C11-64879B5A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37BD3-1AD0-4A44-B5A1-00B6D30C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E3539-7075-43E4-B130-102AB1D1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7826A-7B4A-4333-928F-6166E50F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3DF4F-8719-4144-BF10-4BC53A61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59ED7-3316-43D8-A45F-764805EA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DDD6C-E135-49ED-9B24-7F726495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10037-D5F8-4F31-831E-68070285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0B322-C60D-4D87-8B5F-CD135F31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52F-6FCE-461B-AFAA-4413580A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C108A-472A-4FC8-A154-FE68164F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89B4F-86E7-492A-A02C-3CE1C632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07386-C887-461C-8C56-E7A70D00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F1BAD-4D87-4437-97CF-CE83FE12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13BDF-AB94-411B-9F32-C075FB73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14331-048F-43FB-B366-AF537E9B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02BCE-2829-47BF-9EE5-F241F921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E387A-8FF3-4701-BC1B-0D24CDAC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F048E-4341-4F73-AB57-C670D9A8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48FB4-5E66-473F-B04B-2736DF9D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401-E85D-406A-B369-DA909820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E34DA-2CA1-43EA-8A10-F22ED9D9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6DA44-7C33-4024-A223-8DDF942F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A4D79-5725-41C9-B22E-D1EA11BD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2449B-6C21-4059-A1C3-211ED78B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4FC47-2887-4549-A49E-D03B17DF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414EC-1E56-47D3-857F-CACB0CCB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E2714-5448-450A-9ECC-0BC72FAA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DBCC0-DF43-4346-9E08-DBEAC0FC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1BB87-FA51-44B2-9616-2495AC85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1AED0-C4EE-49D2-B537-11D93B0D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797C-9679-4FDA-8190-5665B6C904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1A0C-48C8-4272-AB99-C68267E908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CC40-0102-49FE-85DD-F5D2698F43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7836-47B9-4684-B72A-CD01A20B25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01FB-887F-49B3-9A62-4475A8524B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4851-FAD4-406C-80CF-0B5016B19B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19B3-3EDC-4A29-BB0C-468D496AA9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22FC-BF2B-482B-AF8E-545B854C02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4782-34D7-4D1D-BFF2-393FDF776B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0A38-75C6-459A-AE20-DF4DC8CEDD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52D4-B622-495A-8DD3-E91AFD716B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FC8A-F93E-4C0C-A7F8-4F1D4B159A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7A2F-0EE6-4EA3-BF30-F9D4A83F79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41B5-539D-4776-96F4-AA83089AF6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97A0-0BE0-4AEF-84CA-F2CAFF1A37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6F54-471F-4F0A-853F-026FC8C227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EDFA-35B9-4A24-8EC8-B6AE68A21F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42C3-3ABE-4F15-977B-E029EC591E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6443-4314-4457-8148-908A62AAEE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3D35-3B5B-49DC-A2E5-8F1CD94A33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848E-9016-4C52-9302-7CFAF0B609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3572-3114-426A-9165-6C9E34DB40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12E4-70CF-4C83-9C97-E17F11C9AF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DB51-6BEB-411C-95ED-39AE1BC030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88BE-F6C1-46B4-8967-253B147EDF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28B0-93B1-4082-B3BB-7EADE89C8C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75D7-CF01-4184-8D96-9F04D7A173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2EB7-07B7-45B0-87EE-5925320C9B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39BB-FBFD-4671-BBAC-EFAC374D0F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66F2-C76D-4D20-8C43-E647E66551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A79F-85DF-4ECF-A668-21691A1C0A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ADC8-7A38-46CE-BC75-D644A049DA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81C4-1C5F-43E8-A5E5-4ADAB35540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D2EE-39B9-4662-8711-A982D910302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220D-E2BF-43CD-A1B6-968D05E8F2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5998-96AE-4C65-835F-BC813A367E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9567-7E24-4C49-BD11-1AA0EDB6BC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52A5-A6F9-4801-8CEB-B9DE87F186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173B-3CA4-47E8-9D91-68D7272049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54CE-5635-44AF-AA8E-1CF747D739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3EBC-C36D-4823-A05E-D24C82B89F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24A2-CCEF-4270-9B35-8198701285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41120" y="2430360"/>
            <a:ext cx="886320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326880" y="919080"/>
            <a:ext cx="2229120" cy="34308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247680" y="1343160"/>
            <a:ext cx="8523360" cy="70488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3" descr=""/>
          <p:cNvPicPr/>
          <p:nvPr/>
        </p:nvPicPr>
        <p:blipFill>
          <a:blip r:embed="rId3"/>
          <a:stretch/>
        </p:blipFill>
        <p:spPr>
          <a:xfrm>
            <a:off x="326880" y="2048040"/>
            <a:ext cx="7675560" cy="2457360"/>
          </a:xfrm>
          <a:prstGeom prst="rect">
            <a:avLst/>
          </a:prstGeom>
          <a:ln w="0">
            <a:noFill/>
          </a:ln>
        </p:spPr>
      </p:pic>
      <p:pic>
        <p:nvPicPr>
          <p:cNvPr id="1110" name="图片 4" descr=""/>
          <p:cNvPicPr/>
          <p:nvPr/>
        </p:nvPicPr>
        <p:blipFill>
          <a:blip r:embed="rId4"/>
          <a:stretch/>
        </p:blipFill>
        <p:spPr>
          <a:xfrm>
            <a:off x="247680" y="4618080"/>
            <a:ext cx="8818560" cy="20955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539640" y="134136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539640" y="206064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539640" y="386064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8"/>
          <a:stretch/>
        </p:blipFill>
        <p:spPr>
          <a:xfrm>
            <a:off x="468360" y="465300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9"/>
          <a:stretch/>
        </p:blipFill>
        <p:spPr>
          <a:xfrm>
            <a:off x="468360" y="5734080"/>
            <a:ext cx="3603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376200" y="1793880"/>
            <a:ext cx="7999560" cy="2076480"/>
          </a:xfrm>
          <a:prstGeom prst="rect">
            <a:avLst/>
          </a:prstGeom>
          <a:ln w="0">
            <a:noFill/>
          </a:ln>
        </p:spPr>
      </p:pic>
      <p:pic>
        <p:nvPicPr>
          <p:cNvPr id="1117" name="图片 2" descr=""/>
          <p:cNvPicPr/>
          <p:nvPr/>
        </p:nvPicPr>
        <p:blipFill>
          <a:blip r:embed="rId2"/>
          <a:stretch/>
        </p:blipFill>
        <p:spPr>
          <a:xfrm>
            <a:off x="654120" y="3960720"/>
            <a:ext cx="4381560" cy="3812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3924360" y="2143080"/>
            <a:ext cx="1152360" cy="2937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2700360" y="2492280"/>
            <a:ext cx="576360" cy="29376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5"/>
          <a:stretch/>
        </p:blipFill>
        <p:spPr>
          <a:xfrm>
            <a:off x="4140360" y="2852640"/>
            <a:ext cx="1152360" cy="29376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6"/>
          <a:stretch/>
        </p:blipFill>
        <p:spPr>
          <a:xfrm>
            <a:off x="4284720" y="3203640"/>
            <a:ext cx="576360" cy="29376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7"/>
          <a:stretch/>
        </p:blipFill>
        <p:spPr>
          <a:xfrm>
            <a:off x="1835280" y="3990960"/>
            <a:ext cx="108108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图片 1" descr=""/>
          <p:cNvPicPr/>
          <p:nvPr/>
        </p:nvPicPr>
        <p:blipFill>
          <a:blip r:embed="rId1"/>
          <a:stretch/>
        </p:blipFill>
        <p:spPr>
          <a:xfrm>
            <a:off x="343080" y="1530360"/>
            <a:ext cx="7076880" cy="1724040"/>
          </a:xfrm>
          <a:prstGeom prst="rect">
            <a:avLst/>
          </a:prstGeom>
          <a:ln w="0">
            <a:noFill/>
          </a:ln>
        </p:spPr>
      </p:pic>
      <p:pic>
        <p:nvPicPr>
          <p:cNvPr id="1124" name="图片 2" descr=""/>
          <p:cNvPicPr/>
          <p:nvPr/>
        </p:nvPicPr>
        <p:blipFill>
          <a:blip r:embed="rId2"/>
          <a:stretch/>
        </p:blipFill>
        <p:spPr>
          <a:xfrm>
            <a:off x="343080" y="3355920"/>
            <a:ext cx="7858080" cy="333360"/>
          </a:xfrm>
          <a:prstGeom prst="rect">
            <a:avLst/>
          </a:prstGeom>
          <a:ln w="0">
            <a:noFill/>
          </a:ln>
        </p:spPr>
      </p:pic>
      <p:pic>
        <p:nvPicPr>
          <p:cNvPr id="1125" name="图片 3" descr=""/>
          <p:cNvPicPr/>
          <p:nvPr/>
        </p:nvPicPr>
        <p:blipFill>
          <a:blip r:embed="rId3"/>
          <a:stretch/>
        </p:blipFill>
        <p:spPr>
          <a:xfrm>
            <a:off x="404640" y="3803760"/>
            <a:ext cx="7420320" cy="17143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4"/>
          <a:stretch/>
        </p:blipFill>
        <p:spPr>
          <a:xfrm>
            <a:off x="826920" y="2205000"/>
            <a:ext cx="936720" cy="2937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5"/>
          <a:stretch/>
        </p:blipFill>
        <p:spPr>
          <a:xfrm>
            <a:off x="3132000" y="2205000"/>
            <a:ext cx="936720" cy="29376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6"/>
          <a:stretch/>
        </p:blipFill>
        <p:spPr>
          <a:xfrm>
            <a:off x="611280" y="2905200"/>
            <a:ext cx="21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7"/>
          <a:stretch/>
        </p:blipFill>
        <p:spPr>
          <a:xfrm>
            <a:off x="826920" y="3745080"/>
            <a:ext cx="1872000" cy="29340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8"/>
          <a:stretch/>
        </p:blipFill>
        <p:spPr>
          <a:xfrm>
            <a:off x="3348000" y="4446720"/>
            <a:ext cx="3311640" cy="29340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9"/>
          <a:stretch/>
        </p:blipFill>
        <p:spPr>
          <a:xfrm>
            <a:off x="900000" y="5157720"/>
            <a:ext cx="187164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图片 1" descr=""/>
          <p:cNvPicPr/>
          <p:nvPr/>
        </p:nvPicPr>
        <p:blipFill>
          <a:blip r:embed="rId1"/>
          <a:stretch/>
        </p:blipFill>
        <p:spPr>
          <a:xfrm>
            <a:off x="71280" y="1490760"/>
            <a:ext cx="8999640" cy="38764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2"/>
          <a:stretch/>
        </p:blipFill>
        <p:spPr>
          <a:xfrm>
            <a:off x="1835280" y="2182680"/>
            <a:ext cx="4752720" cy="2937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3"/>
          <a:stretch/>
        </p:blipFill>
        <p:spPr>
          <a:xfrm>
            <a:off x="684360" y="2882880"/>
            <a:ext cx="1728720" cy="29376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4"/>
          <a:stretch/>
        </p:blipFill>
        <p:spPr>
          <a:xfrm>
            <a:off x="530280" y="3589200"/>
            <a:ext cx="1728720" cy="29376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5"/>
          <a:stretch/>
        </p:blipFill>
        <p:spPr>
          <a:xfrm>
            <a:off x="3995640" y="3589200"/>
            <a:ext cx="1584360" cy="2937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6"/>
          <a:stretch/>
        </p:blipFill>
        <p:spPr>
          <a:xfrm>
            <a:off x="1042920" y="4282920"/>
            <a:ext cx="936720" cy="29376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7"/>
          <a:stretch/>
        </p:blipFill>
        <p:spPr>
          <a:xfrm>
            <a:off x="2805120" y="4292640"/>
            <a:ext cx="936720" cy="29376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8"/>
          <a:stretch/>
        </p:blipFill>
        <p:spPr>
          <a:xfrm>
            <a:off x="1403280" y="4991040"/>
            <a:ext cx="2664000" cy="29376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9"/>
          <a:stretch/>
        </p:blipFill>
        <p:spPr>
          <a:xfrm>
            <a:off x="5470560" y="4991040"/>
            <a:ext cx="5763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7:2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